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525-7E70-4F95-AB10-C1B16DBC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61D-1B54-47CD-9E01-06DDA7E7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8B6-0A95-4730-A099-CE8F71E1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C7E-CD84-4626-B671-9FA3350F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F23-F9E4-485B-AF93-97AB3D84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D7D-4A35-40EE-A698-5CD078C5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DCA-E8F7-4575-AFE1-8A02FC9E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A7B-511E-48DB-B6F3-E9706C88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7F7-1FF7-4D88-B74C-EF5CB000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1EA-559B-48F5-BC5F-8224169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0E1-CF3C-4829-8B62-E47A1F12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237-4FDC-4AFD-94E5-5E2BFCA8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E448-10EF-43FE-9D08-C3588D603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0-19T13:46:54Z</dcterms:modified>
  <cp:revision>28</cp:revision>
  <dc:subject/>
  <dc:title>Slide 1</dc:title>
</cp:coreProperties>
</file>